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954838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955200" cy="92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940200" y="-36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68200" y="693720"/>
            <a:ext cx="461772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2E885-34E2-4B99-9F68-948B7DC93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ideo was to set the tone for the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Joanne and I were planning we were trying to tie differentiation into RTI Frame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confer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know all about RTI....learning process.....but what I do know is that RTI is a good framework from within it is embedded with different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y intervention is 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 good instruction to reach all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 research based instru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a frame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mework for how to embed differentiation ..... Emphasis on teacher i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 ed driven.....in the states it’s mandated federally, curriculum driv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mework itself has three tiers.  Different things are happening in each t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F9C3A-0702-4956-B48B-202B6FA6F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90ECC-A115-4F19-A7AB-1B728BA65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7CE75-77EC-4AA7-8B83-828663691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2DD3C-E3CD-43A8-870F-F9582CB1D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A60E6-B730-4D30-BEE1-64216D40B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16126-9510-4F69-A948-061921421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5E42C-9A6D-4B5E-8BF3-88C221B88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87BE6-A026-47D6-BF07-3AD476F66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2306A-0048-44B1-A960-3AA19F26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BED02-4A24-49CB-BAA8-CA11EBE29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DDA89-F9F1-48FF-BCDC-1BC57C7B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E9D36-9207-4CFD-A2B5-62EC961F0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70518-DA33-460E-97A6-22BAA502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61305-8347-432F-8790-B0E875D4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17DE6-467D-4E6F-9D56-D3CF5DAB1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6527E-43DA-46A7-9B8C-8ADA3E006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35632-B70A-4CE2-86EE-38D936D83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7052A-C4A2-4FFA-9E42-145A8FACF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B1F78-9ECE-4F1C-BC46-B05822AFF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D6F45-A3ED-4934-A939-C8FBDD51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62A84-46BD-4E09-8106-3F4FDABA2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491A8-9BED-46DD-8E6B-4B7A7873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D2BC7-2A79-49E2-B523-DBB3237E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6C4E7-A569-4286-AED8-6849745D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3CE7D-6800-451C-8615-9FA5F082B0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B5B38-65C2-4ED0-A596-8B4AF3A3DE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RTI Review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ifferentiation Group – Day 2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ovember 17, 2008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er 2:  A Closer L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geted short-term interventions to those students demonstrating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emental support in addition t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t monitor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er 3:  A Closer L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nsive inter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er te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ized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frequent moni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yramid of Interven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pg23 triangle"/>
          <p:cNvPicPr/>
          <p:nvPr/>
        </p:nvPicPr>
        <p:blipFill>
          <a:blip r:embed="rId1"/>
          <a:stretch/>
        </p:blipFill>
        <p:spPr>
          <a:xfrm>
            <a:off x="731880" y="2021040"/>
            <a:ext cx="768024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’s happening in your classro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KNOW about...RT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DO in your classroom about...RTI at the Universal level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ue or False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Q predicts reading abil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ren are born with the innate ability to read and do mat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reading and math programs are research ba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earning Disability is best determined when students are in second or third gra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sion of special ed support always shows student improve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otes from Convention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all about instruction and then interven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your school become a community of learners that are intolerant of fail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iated instruction, RTI and PBIS prevent failu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TI is NOT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eac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e-refer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ay to increase or decrease special ed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a checklist to determine a disa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TI is.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ultitiered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chie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struction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terventions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rogress moni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TI is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ultitier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pproach for maximizing student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chiev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provid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ru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terven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are research based.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rogress monitor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nsures students are being successful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TI is.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aming Teacher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TI Fra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7" descr="pg9 triangle"/>
          <p:cNvPicPr/>
          <p:nvPr/>
        </p:nvPicPr>
        <p:blipFill>
          <a:blip r:embed="rId1"/>
          <a:stretch/>
        </p:blipFill>
        <p:spPr>
          <a:xfrm>
            <a:off x="2068560" y="1981080"/>
            <a:ext cx="5005440" cy="3886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7" descr="pg9 triangle"/>
          <p:cNvPicPr/>
          <p:nvPr/>
        </p:nvPicPr>
        <p:blipFill>
          <a:blip r:embed="rId2"/>
          <a:stretch/>
        </p:blipFill>
        <p:spPr>
          <a:xfrm>
            <a:off x="1752480" y="1828800"/>
            <a:ext cx="5562720" cy="43196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600200" y="297180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00200" y="3048120"/>
            <a:ext cx="12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havi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27360" y="312408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adem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er 1:  A Closer L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al scre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iculum based measurements (CB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 data against benchmarks withi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icular and instructional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entions within classroom setting by classroom tea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3T20:38:18Z</dcterms:created>
  <dc:creator>nancyschultz</dc:creator>
  <dc:description/>
  <dc:language>en-US</dc:language>
  <cp:lastModifiedBy>nancyschultz</cp:lastModifiedBy>
  <dcterms:modified xsi:type="dcterms:W3CDTF">2008-11-17T14:54:55Z</dcterms:modified>
  <cp:revision>11</cp:revision>
  <dc:subject/>
  <dc:title>RTI Review</dc:title>
</cp:coreProperties>
</file>